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587EC-AF79-4B03-8E30-61E6150D3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17680" y="4030920"/>
            <a:ext cx="7399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A7A15-F19E-423B-ADE9-42ED55F4E1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17680" y="403092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09560" y="403092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CF0C-D860-47C3-9F7B-8EFED1406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19680" y="168228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21680" y="168228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17680" y="403092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19680" y="403092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21680" y="403092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BE0C-6DC5-4340-AF40-97CBF2DA2A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41360" y="698040"/>
            <a:ext cx="69343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17680" y="403092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0AD45-AFC9-4858-B51C-AD455EF044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09560" y="403092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17680" y="4030920"/>
            <a:ext cx="7399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17680" y="4030920"/>
            <a:ext cx="7399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17680" y="403092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09560" y="403092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919680" y="168228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21680" y="168228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17680" y="403092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919680" y="403092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21680" y="403092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5142B-415A-45A5-BBEB-E23134542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C5D55-42CA-4434-9048-2F7191FEC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2144B-19DD-431C-B625-5146B8DE7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41360" y="698040"/>
            <a:ext cx="69343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036D-80D7-4520-919E-25BD3C26B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17680" y="403092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3A867-4C2D-42EB-8761-BFA58CE37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09560" y="403092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F8068-A3B8-4786-B0CA-0A4D8511B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17680" y="4030920"/>
            <a:ext cx="7399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31CA7-40D4-43AD-9384-A51AFBBB2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424160" indent="-27972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828800" indent="-2602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233440" indent="-2124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23344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23344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752400" y="0"/>
            <a:ext cx="0" cy="6858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70640" y="6477120"/>
            <a:ext cx="6253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77AE-2173-4895-AF63-951AD9D62D40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955800" y="158760"/>
            <a:ext cx="149040" cy="6540480"/>
            <a:chOff x="955800" y="158760"/>
            <a:chExt cx="149040" cy="6540480"/>
          </a:xfrm>
        </p:grpSpPr>
        <p:sp>
          <p:nvSpPr>
            <p:cNvPr id="5" name="Freeform 7"/>
            <p:cNvSpPr/>
            <p:nvPr/>
          </p:nvSpPr>
          <p:spPr>
            <a:xfrm>
              <a:off x="955800" y="158760"/>
              <a:ext cx="149040" cy="65404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6540480"/>
                <a:gd name="textAreaBottom" fmla="*/ 6540840 h 6540480"/>
              </a:gdLst>
              <a:ahLst/>
              <a:rect l="textAreaLeft" t="textAreaTop" r="textAreaRight" b="textAreaBottom"/>
              <a:pathLst>
                <a:path w="94" h="4120">
                  <a:moveTo>
                    <a:pt x="94" y="0"/>
                  </a:moveTo>
                  <a:lnTo>
                    <a:pt x="0" y="0"/>
                  </a:lnTo>
                  <a:lnTo>
                    <a:pt x="0" y="41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rot="5400000">
              <a:off x="979560" y="6582960"/>
              <a:ext cx="96840" cy="132840"/>
            </a:xfrm>
            <a:prstGeom prst="triangle">
              <a:avLst>
                <a:gd name="adj" fmla="val 4657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5" descr="Picture6"/>
          <p:cNvPicPr/>
          <p:nvPr/>
        </p:nvPicPr>
        <p:blipFill>
          <a:blip r:embed="rId2"/>
          <a:stretch/>
        </p:blipFill>
        <p:spPr>
          <a:xfrm>
            <a:off x="0" y="0"/>
            <a:ext cx="878040" cy="69469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8" descr=""/>
          <p:cNvPicPr/>
          <p:nvPr/>
        </p:nvPicPr>
        <p:blipFill>
          <a:blip r:embed="rId3"/>
          <a:stretch/>
        </p:blipFill>
        <p:spPr>
          <a:xfrm>
            <a:off x="8077320" y="152280"/>
            <a:ext cx="96840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c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6"/>
          <p:cNvSpPr/>
          <p:nvPr/>
        </p:nvSpPr>
        <p:spPr>
          <a:xfrm>
            <a:off x="0" y="304812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Picture5"/>
          <p:cNvPicPr/>
          <p:nvPr/>
        </p:nvPicPr>
        <p:blipFill>
          <a:blip r:embed="rId2"/>
          <a:stretch/>
        </p:blipFill>
        <p:spPr>
          <a:xfrm>
            <a:off x="0" y="3048120"/>
            <a:ext cx="9198000" cy="3809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3"/>
          <a:stretch/>
        </p:blipFill>
        <p:spPr>
          <a:xfrm>
            <a:off x="25560" y="2075040"/>
            <a:ext cx="1269720" cy="896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424160" indent="-27972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828800" indent="-2602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233440" indent="-2124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23344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23344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82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6382e"/>
                </a:solidFill>
                <a:latin typeface="Arial"/>
              </a:rPr>
              <a:t>Microsoft Office 2007- Illustrated Introductory, Premium Video Edi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816200" y="1922400"/>
            <a:ext cx="670536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Formatting a Worksheet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hanging Attributes and Alignmen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04720" y="1924200"/>
            <a:ext cx="739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Alignment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determines the position of data in a cel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ft, right, or cente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pply attributes and alignment options using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ome tab, o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rmat Cells dialog box, or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ini toolba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4" descr=""/>
          <p:cNvPicPr/>
          <p:nvPr/>
        </p:nvPicPr>
        <p:blipFill>
          <a:blip r:embed="rId1"/>
          <a:stretch/>
        </p:blipFill>
        <p:spPr>
          <a:xfrm>
            <a:off x="2049480" y="2965320"/>
            <a:ext cx="6134040" cy="320688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4"/>
          <p:cNvSpPr/>
          <p:nvPr/>
        </p:nvSpPr>
        <p:spPr>
          <a:xfrm>
            <a:off x="5486400" y="5867280"/>
            <a:ext cx="3048120" cy="628920"/>
          </a:xfrm>
          <a:prstGeom prst="borderCallout1">
            <a:avLst>
              <a:gd name="adj1" fmla="val 18750"/>
              <a:gd name="adj2" fmla="val -8333"/>
              <a:gd name="adj3" fmla="val -77523"/>
              <a:gd name="adj4" fmla="val -38490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headings centered, bold, and underl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1108080" y="5572080"/>
            <a:ext cx="1711440" cy="905040"/>
          </a:xfrm>
          <a:prstGeom prst="borderCallout1">
            <a:avLst>
              <a:gd name="adj1" fmla="val 18750"/>
              <a:gd name="adj2" fmla="val -8333"/>
              <a:gd name="adj3" fmla="val -57018"/>
              <a:gd name="adj4" fmla="val 14359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centered across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554040" y="2209680"/>
            <a:ext cx="1427040" cy="990720"/>
          </a:xfrm>
          <a:prstGeom prst="borderCallout1">
            <a:avLst>
              <a:gd name="adj1" fmla="val 18750"/>
              <a:gd name="adj2" fmla="val -8333"/>
              <a:gd name="adj3" fmla="val 127564"/>
              <a:gd name="adj4" fmla="val 144606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ting buttons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6781680" y="2362320"/>
            <a:ext cx="1600200" cy="609480"/>
          </a:xfrm>
          <a:prstGeom prst="borderCallout1">
            <a:avLst>
              <a:gd name="adj1" fmla="val 18750"/>
              <a:gd name="adj2" fmla="val -8333"/>
              <a:gd name="adj3" fmla="val 199217"/>
              <a:gd name="adj4" fmla="val -131152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ge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hanging Attributes and Alignmen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1905120" y="17524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orksheet with formatting attributes a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5"/>
          <p:cNvSpPr/>
          <p:nvPr/>
        </p:nvSpPr>
        <p:spPr>
          <a:xfrm>
            <a:off x="2057400" y="2362320"/>
            <a:ext cx="838080" cy="1143000"/>
          </a:xfrm>
          <a:prstGeom prst="line">
            <a:avLst/>
          </a:prstGeom>
          <a:ln w="28440">
            <a:solidFill>
              <a:srgbClr val="e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>
            <a:off x="4343400" y="2286000"/>
            <a:ext cx="1600200" cy="380880"/>
          </a:xfrm>
          <a:prstGeom prst="borderCallout1">
            <a:avLst>
              <a:gd name="adj1" fmla="val 18750"/>
              <a:gd name="adj2" fmla="val -8333"/>
              <a:gd name="adj3" fmla="val 314166"/>
              <a:gd name="adj4" fmla="val -23013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2666880" y="5181480"/>
            <a:ext cx="0" cy="228600"/>
          </a:xfrm>
          <a:prstGeom prst="line">
            <a:avLst/>
          </a:prstGeom>
          <a:ln w="255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2666880" y="5410080"/>
            <a:ext cx="4114800" cy="0"/>
          </a:xfrm>
          <a:prstGeom prst="line">
            <a:avLst/>
          </a:prstGeom>
          <a:ln w="255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 flipV="1">
            <a:off x="6781680" y="5181120"/>
            <a:ext cx="0" cy="228600"/>
          </a:xfrm>
          <a:prstGeom prst="line">
            <a:avLst/>
          </a:prstGeom>
          <a:ln w="255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hanging Attributes and Alignmen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1219320" y="2209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mmon attribute and alignment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5" descr=""/>
          <p:cNvPicPr/>
          <p:nvPr/>
        </p:nvPicPr>
        <p:blipFill>
          <a:blip r:embed="rId1"/>
          <a:stretch/>
        </p:blipFill>
        <p:spPr>
          <a:xfrm>
            <a:off x="990720" y="3048120"/>
            <a:ext cx="807084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djusting Column Width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djust column widths to accommodate dat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fault column width is 8.43 characters wide (a little less than one inch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ne or more columns can be adjusted using the mouse, the Ribbon, or the shortcut menu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djusting Column Width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Column heading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is the box at the top of each column containing a lett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hanging a column width with the mous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sition the mouse pointer between the column headings of the column and the column to its righ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and drag the resize pointer to the righ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djusting Column Width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sing the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AutoFit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featu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sition the mouse pointer between the column headings of the column and the column to its righ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uble-click to activate the AutoFit fea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"/>
          <p:cNvPicPr/>
          <p:nvPr/>
        </p:nvPicPr>
        <p:blipFill>
          <a:blip r:embed="rId1"/>
          <a:stretch/>
        </p:blipFill>
        <p:spPr>
          <a:xfrm>
            <a:off x="2521080" y="2286000"/>
            <a:ext cx="5192640" cy="38926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djusting Column Width </a:t>
            </a:r>
            <a:br>
              <a:rPr sz="3600"/>
            </a:b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1066680" y="2514600"/>
            <a:ext cx="1731960" cy="378000"/>
          </a:xfrm>
          <a:prstGeom prst="borderCallout1">
            <a:avLst>
              <a:gd name="adj1" fmla="val 18750"/>
              <a:gd name="adj2" fmla="val -8333"/>
              <a:gd name="adj3" fmla="val 191597"/>
              <a:gd name="adj4" fmla="val 136203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ze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7010280" y="3733920"/>
            <a:ext cx="1905120" cy="990360"/>
          </a:xfrm>
          <a:prstGeom prst="borderCallout1">
            <a:avLst>
              <a:gd name="adj1" fmla="val 18750"/>
              <a:gd name="adj2" fmla="val -8333"/>
              <a:gd name="adj3" fmla="val -87662"/>
              <a:gd name="adj4" fmla="val -14000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change column or row forma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2286000" y="16765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reparing to change the column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Inserting and Deleting Rows 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nd Column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hen you insert a new row, the contents of the worksheet shift down from the newly inserted row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hen you insert a new column, the contents of the worksheet shift to the right of the new colum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xcel inserts rows above the cell pointer and columns to the lef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8" descr="FIGC-11"/>
          <p:cNvPicPr/>
          <p:nvPr/>
        </p:nvPicPr>
        <p:blipFill>
          <a:blip r:embed="rId1"/>
          <a:stretch/>
        </p:blipFill>
        <p:spPr>
          <a:xfrm>
            <a:off x="3809880" y="2901960"/>
            <a:ext cx="2895840" cy="2813040"/>
          </a:xfrm>
          <a:prstGeom prst="rect">
            <a:avLst/>
          </a:prstGeom>
          <a:ln w="0">
            <a:noFill/>
          </a:ln>
        </p:spPr>
      </p:pic>
      <p:sp>
        <p:nvSpPr>
          <p:cNvPr id="165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Inserting and Deleting Rows 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nd Column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1219320" y="4876920"/>
            <a:ext cx="1731960" cy="685800"/>
          </a:xfrm>
          <a:prstGeom prst="borderCallout1">
            <a:avLst>
              <a:gd name="adj1" fmla="val 18750"/>
              <a:gd name="adj2" fmla="val -8333"/>
              <a:gd name="adj3" fmla="val -55324"/>
              <a:gd name="adj4" fmla="val 16278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re row option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657600" y="21337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sert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Inserting and Deleting Rows 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nd Column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leting rows and colum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lect the row or column heading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he Delete button in the Cells group or use the Delete command on the shortcut menu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rmat valu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hange font and font siz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hange attributes and align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djust column width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sert and delete rows and colum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pplying Colors, Patterns, 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nd Border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can add enhancements such as colors, patterns, and borders by using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order and Fill Color buttons in the Font group on the Home tab of the Ribbon and on the Mini toolbar, o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ll tab and Border tab in the Format Cells dialog bo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pplying Colors, Patterns, 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nd Border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Cell style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are pre-designed combinations of formatting attribu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se the Cell Styles button in the Styles group on the Home tab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"/>
          <p:cNvPicPr/>
          <p:nvPr/>
        </p:nvPicPr>
        <p:blipFill>
          <a:blip r:embed="rId1"/>
          <a:stretch/>
        </p:blipFill>
        <p:spPr>
          <a:xfrm>
            <a:off x="1417680" y="2738520"/>
            <a:ext cx="7399440" cy="31399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pplying Colors, Patterns, 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nd Border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1204920" y="4503600"/>
            <a:ext cx="1309680" cy="654120"/>
          </a:xfrm>
          <a:prstGeom prst="borderCallout1">
            <a:avLst>
              <a:gd name="adj1" fmla="val 18750"/>
              <a:gd name="adj2" fmla="val -8333"/>
              <a:gd name="adj3" fmla="val -148787"/>
              <a:gd name="adj4" fmla="val 163879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 color lis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7315200" y="2362320"/>
            <a:ext cx="1501920" cy="726840"/>
          </a:xfrm>
          <a:prstGeom prst="borderCallout1">
            <a:avLst>
              <a:gd name="adj1" fmla="val 18750"/>
              <a:gd name="adj2" fmla="val -8333"/>
              <a:gd name="adj3" fmla="val 144324"/>
              <a:gd name="adj4" fmla="val -30865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styles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7010280" y="5257800"/>
            <a:ext cx="1676520" cy="990720"/>
          </a:xfrm>
          <a:prstGeom prst="borderCallout1">
            <a:avLst>
              <a:gd name="adj1" fmla="val 18750"/>
              <a:gd name="adj2" fmla="val -8333"/>
              <a:gd name="adj3" fmla="val -20833"/>
              <a:gd name="adj4" fmla="val -33995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A1 with light blue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1295280" y="20574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Viewing fill color using Live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pplying Conditional Formatting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xcel can format cells based on specific resul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utomatic application of formatting attributes on cell values is called 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conditional formatting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r example: values above a certain number can be one color and values below a certain number can be another colo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pplying Conditional Formatting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o apply conditional formatting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Conditional Formatting button in the Styles group on the Home tab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int to Highlight Cells Rules, and then choose from “Between”, “Greater Than”, “Less Than”, etc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fine conditions and formatting in the dialog box that ope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pplying Conditional Formatting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ata bars are a type of conditional formatting that visually illustrate differences among valu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he Conditional Formatting button in the Styles group, point to Data Bars, and then choose from a formatting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pplying Conditional Formatting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475000" y="1752480"/>
            <a:ext cx="46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reviewing a Data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2622600" y="2438280"/>
            <a:ext cx="4989600" cy="374040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7"/>
          <p:cNvSpPr/>
          <p:nvPr/>
        </p:nvSpPr>
        <p:spPr>
          <a:xfrm>
            <a:off x="1066680" y="5410080"/>
            <a:ext cx="1309680" cy="533520"/>
          </a:xfrm>
          <a:prstGeom prst="borderCallout1">
            <a:avLst>
              <a:gd name="adj1" fmla="val 18750"/>
              <a:gd name="adj2" fmla="val -8333"/>
              <a:gd name="adj3" fmla="val -127083"/>
              <a:gd name="adj4" fmla="val 345574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b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 flipH="1">
            <a:off x="5562720" y="4343400"/>
            <a:ext cx="380880" cy="0"/>
          </a:xfrm>
          <a:prstGeom prst="line">
            <a:avLst/>
          </a:prstGeom>
          <a:ln w="255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5562720" y="4343400"/>
            <a:ext cx="0" cy="1752480"/>
          </a:xfrm>
          <a:prstGeom prst="line">
            <a:avLst/>
          </a:prstGeom>
          <a:ln w="255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5562720" y="6095880"/>
            <a:ext cx="380880" cy="0"/>
          </a:xfrm>
          <a:prstGeom prst="line">
            <a:avLst/>
          </a:prstGeom>
          <a:ln w="255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pplying Conditional Formatting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1417680" y="2684520"/>
            <a:ext cx="7399440" cy="32464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1255680" y="1905120"/>
            <a:ext cx="51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sults of Conditional 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Naming and Moving a Shee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y default, an Excel workbook initially contains three worksheets, named Sheet1, Sheet2, and Sheet3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o move to another sheet, click its sheet tab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o make it easier to identify the sheets, you can rename each sheet and add color to the tab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Naming and Moving a Shee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o rename a sheet, double-click its sheet tab, type the new name, and then press [Enter]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o add color to a sheet tab, right-click the sheet tab, point to Tab Color, and then choose a colo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can change the order of sheets by dragging the sheet tab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pply colors, patterns, and border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pply conditional formatting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ame and move a shee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heck spelling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9" descr=""/>
          <p:cNvPicPr/>
          <p:nvPr/>
        </p:nvPicPr>
        <p:blipFill>
          <a:blip r:embed="rId1"/>
          <a:srcRect l="0" t="-5560" r="48098" b="0"/>
          <a:stretch/>
        </p:blipFill>
        <p:spPr>
          <a:xfrm>
            <a:off x="2320920" y="3276720"/>
            <a:ext cx="5375160" cy="13381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Naming and Moving a Shee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362320" y="2438280"/>
            <a:ext cx="51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heet during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1295280" y="4952880"/>
            <a:ext cx="1295640" cy="1067040"/>
          </a:xfrm>
          <a:prstGeom prst="borderCallout1">
            <a:avLst>
              <a:gd name="adj1" fmla="val 18750"/>
              <a:gd name="adj2" fmla="val -8333"/>
              <a:gd name="adj3" fmla="val -59375"/>
              <a:gd name="adj4" fmla="val 132351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3429000" y="5181480"/>
            <a:ext cx="1295280" cy="685800"/>
          </a:xfrm>
          <a:prstGeom prst="borderCallout1">
            <a:avLst>
              <a:gd name="adj1" fmla="val 18750"/>
              <a:gd name="adj2" fmla="val -8333"/>
              <a:gd name="adj3" fmla="val -119212"/>
              <a:gd name="adj4" fmla="val -12254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e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5181480" y="5181480"/>
            <a:ext cx="1295640" cy="685800"/>
          </a:xfrm>
          <a:prstGeom prst="borderCallout1">
            <a:avLst>
              <a:gd name="adj1" fmla="val 18750"/>
              <a:gd name="adj2" fmla="val -8333"/>
              <a:gd name="adj3" fmla="val -120601"/>
              <a:gd name="adj4" fmla="val -102574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j0174966[1]"/>
          <p:cNvPicPr/>
          <p:nvPr/>
        </p:nvPicPr>
        <p:blipFill>
          <a:blip r:embed="rId1"/>
          <a:stretch/>
        </p:blipFill>
        <p:spPr>
          <a:xfrm>
            <a:off x="5079960" y="4114800"/>
            <a:ext cx="3338640" cy="22255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hecking Spelling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26880" y="1560240"/>
            <a:ext cx="7399080" cy="40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pelling checker scans the worksheet and flags possible mistakes and suggests correc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859320" indent="-2700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o check other worksheets in a workbook, display the worksheet and run the spelling checker agai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59320" indent="-2700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dd words that are spelled correctly but are not recognized by the spelling checke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9" descr="FIGC-24"/>
          <p:cNvPicPr/>
          <p:nvPr/>
        </p:nvPicPr>
        <p:blipFill>
          <a:blip r:embed="rId1"/>
          <a:stretch/>
        </p:blipFill>
        <p:spPr>
          <a:xfrm>
            <a:off x="3009960" y="2522520"/>
            <a:ext cx="5067360" cy="3260880"/>
          </a:xfrm>
          <a:prstGeom prst="rect">
            <a:avLst/>
          </a:prstGeom>
          <a:ln w="0">
            <a:noFill/>
          </a:ln>
        </p:spPr>
      </p:pic>
      <p:sp>
        <p:nvSpPr>
          <p:cNvPr id="224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hecking Spelling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990720" y="3429000"/>
            <a:ext cx="1295280" cy="685800"/>
          </a:xfrm>
          <a:prstGeom prst="borderCallout1">
            <a:avLst>
              <a:gd name="adj1" fmla="val 18750"/>
              <a:gd name="adj2" fmla="val -8333"/>
              <a:gd name="adj3" fmla="val -32175"/>
              <a:gd name="adj4" fmla="val 161518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p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914400" y="4800600"/>
            <a:ext cx="1676520" cy="914400"/>
          </a:xfrm>
          <a:prstGeom prst="borderCallout1">
            <a:avLst>
              <a:gd name="adj1" fmla="val 18750"/>
              <a:gd name="adj2" fmla="val -8333"/>
              <a:gd name="adj3" fmla="val -30208"/>
              <a:gd name="adj4" fmla="val 125662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ment word sugg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855880" y="1752480"/>
            <a:ext cx="51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pelling: English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rmat valu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hange font and font siz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hange attributes and align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djust column width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sert and delete rows and colum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pply colors, patterns, and border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pply conditional formatting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ame and move a shee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heck spelling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Formatting Value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format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of a cell determines how the labels and values look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old, italic, dollar signs, commas, etc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rmatting does not change the data only its appearanc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lect a cell or a range, then apply formatting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FIGC-02"/>
          <p:cNvPicPr/>
          <p:nvPr/>
        </p:nvPicPr>
        <p:blipFill>
          <a:blip r:embed="rId1"/>
          <a:stretch/>
        </p:blipFill>
        <p:spPr>
          <a:xfrm>
            <a:off x="2733840" y="2057400"/>
            <a:ext cx="4657680" cy="403380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Formatting Value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895480" y="14479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rmat Cells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hanging Font and Font Size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6560" y="1671120"/>
            <a:ext cx="739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font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is the name for a collection of characters with a similar, specific desig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nt size is the physical size of tex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easured in points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424160" indent="-2797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 point = 1/72 of an inc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default font in Excel is 11-point Calibri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4" descr="FIGC-05"/>
          <p:cNvPicPr/>
          <p:nvPr/>
        </p:nvPicPr>
        <p:blipFill>
          <a:blip r:embed="rId1"/>
          <a:stretch/>
        </p:blipFill>
        <p:spPr>
          <a:xfrm>
            <a:off x="2762280" y="2362320"/>
            <a:ext cx="4400640" cy="380988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hanging Font and Font Sizes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286000" y="1676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nt tab in the Format Cells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7250040" y="3886200"/>
            <a:ext cx="1360440" cy="633240"/>
          </a:xfrm>
          <a:prstGeom prst="borderCallout1">
            <a:avLst>
              <a:gd name="adj1" fmla="val 18750"/>
              <a:gd name="adj2" fmla="val -8333"/>
              <a:gd name="adj3" fmla="val -91731"/>
              <a:gd name="adj4" fmla="val -112370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 styl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5410080" y="3124080"/>
            <a:ext cx="304920" cy="0"/>
          </a:xfrm>
          <a:prstGeom prst="line">
            <a:avLst/>
          </a:prstGeom>
          <a:ln w="255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5715000" y="3124080"/>
            <a:ext cx="0" cy="609840"/>
          </a:xfrm>
          <a:prstGeom prst="line">
            <a:avLst/>
          </a:prstGeom>
          <a:ln w="255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 flipH="1">
            <a:off x="5409720" y="3733920"/>
            <a:ext cx="304920" cy="0"/>
          </a:xfrm>
          <a:prstGeom prst="line">
            <a:avLst/>
          </a:prstGeom>
          <a:ln w="255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2"/>
          <p:cNvSpPr/>
          <p:nvPr/>
        </p:nvSpPr>
        <p:spPr>
          <a:xfrm>
            <a:off x="7238880" y="4952880"/>
            <a:ext cx="1360440" cy="633600"/>
          </a:xfrm>
          <a:prstGeom prst="borderCallout1">
            <a:avLst>
              <a:gd name="adj1" fmla="val 18750"/>
              <a:gd name="adj2" fmla="val -8333"/>
              <a:gd name="adj3" fmla="val -43861"/>
              <a:gd name="adj4" fmla="val -72226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ew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3"/>
          <p:cNvSpPr/>
          <p:nvPr/>
        </p:nvSpPr>
        <p:spPr>
          <a:xfrm>
            <a:off x="7238880" y="2133720"/>
            <a:ext cx="1676520" cy="1218960"/>
          </a:xfrm>
          <a:prstGeom prst="borderCallout1">
            <a:avLst>
              <a:gd name="adj1" fmla="val 18750"/>
              <a:gd name="adj2" fmla="val -8333"/>
              <a:gd name="adj3" fmla="val 76824"/>
              <a:gd name="adj4" fmla="val -52745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a custom font size or select from th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4"/>
          <p:cNvSpPr/>
          <p:nvPr/>
        </p:nvSpPr>
        <p:spPr>
          <a:xfrm>
            <a:off x="1077840" y="2514600"/>
            <a:ext cx="1360440" cy="990720"/>
          </a:xfrm>
          <a:prstGeom prst="borderCallout1">
            <a:avLst>
              <a:gd name="adj1" fmla="val 18750"/>
              <a:gd name="adj2" fmla="val -8333"/>
              <a:gd name="adj3" fmla="val 70032"/>
              <a:gd name="adj4" fmla="val 149356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ly selected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2" descr=""/>
          <p:cNvPicPr/>
          <p:nvPr/>
        </p:nvPicPr>
        <p:blipFill>
          <a:blip r:embed="rId1"/>
          <a:srcRect l="0" t="0" r="21326" b="-634"/>
          <a:stretch/>
        </p:blipFill>
        <p:spPr>
          <a:xfrm>
            <a:off x="2057400" y="3048120"/>
            <a:ext cx="5821200" cy="32446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4"/>
          <p:cNvSpPr/>
          <p:nvPr/>
        </p:nvSpPr>
        <p:spPr>
          <a:xfrm>
            <a:off x="3733920" y="2362320"/>
            <a:ext cx="3954240" cy="377640"/>
          </a:xfrm>
          <a:prstGeom prst="borderCallout1">
            <a:avLst>
              <a:gd name="adj1" fmla="val 18750"/>
              <a:gd name="adj2" fmla="val -8333"/>
              <a:gd name="adj3" fmla="val 307143"/>
              <a:gd name="adj4" fmla="val -17625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 and size of active cell or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 flipH="1">
            <a:off x="3504960" y="2514600"/>
            <a:ext cx="152280" cy="990720"/>
          </a:xfrm>
          <a:prstGeom prst="line">
            <a:avLst/>
          </a:prstGeom>
          <a:ln w="28440">
            <a:solidFill>
              <a:srgbClr val="e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hanging Font and Font Sizes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1905120" y="1752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orksheet with formatted title and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j0197564[1]"/>
          <p:cNvPicPr/>
          <p:nvPr/>
        </p:nvPicPr>
        <p:blipFill>
          <a:blip r:embed="rId1"/>
          <a:stretch/>
        </p:blipFill>
        <p:spPr>
          <a:xfrm>
            <a:off x="6404040" y="4506840"/>
            <a:ext cx="2435040" cy="2198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hanging Attributes and Alignmen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04720" y="1924200"/>
            <a:ext cx="739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ttributes are styling formats such as bold, italics, and underlining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Format Painter allows you to copy all formatting attributes of selected cells and apply them to other cell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se to copy multiple format settings or individual on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20:50:52Z</dcterms:created>
  <dc:creator>Phil</dc:creator>
  <dc:description/>
  <dc:language>en-US</dc:language>
  <cp:lastModifiedBy>Phil Schneider</cp:lastModifiedBy>
  <dcterms:modified xsi:type="dcterms:W3CDTF">2012-02-27T00:57:43Z</dcterms:modified>
  <cp:revision>115</cp:revision>
  <dc:subject/>
  <dc:title>Microsoft Office 2007- Illustrated Introductory, Windows XP Edition</dc:title>
</cp:coreProperties>
</file>